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DF7-7CA9-4F1C-8B22-D8B8B138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75A-8804-4EA2-BBBC-8B7E2AC7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89B-4D60-430D-936A-4CB4CFB1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D10-C9CF-4D83-A71C-EC8D6086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AA2-A9A1-4702-BE53-CA6DDD8C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C94-3D10-40BD-A906-2107B24E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467-C8DD-4D09-AC75-B3890C5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493-7FA9-4852-BE8F-EAD8EEB2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28B-E287-4650-9849-69884CE9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934-3684-4966-BFF1-BA226151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B18-3D2E-44CC-816C-2C5D3517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59B-95E4-4428-B662-85F2E68C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490A5823-D4C0-4AA3-B4E7-6AA652C26352}" type="slidenum">
              <a:rPr b="0" lang="en-GB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data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amou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 fname[3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lname[3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 re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data re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Enter the donor's first and last names, 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separated by a space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  ("%s %s", rec.fname, rec.l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Enter the donation amount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  ("%f", &amp;rec.am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Donor %s %s gave $%.2f.\n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c.fname,rec.lname,rec.am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s of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verse of a structure with arr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 fname [10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 lname [12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phone [8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entry list [100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reates a list of 1000 identical entry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ist [1] = list [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cpy (list[1].phone, list[6].pho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ist[6].phone[1] = list[3].phone[4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fname 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lname 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phone 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81280" y="1142640"/>
            <a:ext cx="64771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ruct entry list[4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i=0; i &lt; 4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Enter first name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s", list[i].f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last name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s", list[i].l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phone in 123-4567 format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s", list[i].phon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i=0; i &lt; 4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Name: %s %s", list[i].fname, list[i].l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t\tPhone: %s\n", list[i].phon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114300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itializing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sal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customer [20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item [20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amoun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sale mysale = { "Acme Industries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"Zorgle blaster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000 }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itializing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s within struc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 custome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firm [20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contact [25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sal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ustomer buye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item [20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m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mysal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 { "Acme Industries", "George Adams"}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"Zorgle Blaster", 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itializing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8006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s of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ustomer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firm [20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contact [25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sal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ustomer buyer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item [20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amoun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sale y1990 [100] =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  { "Acme Industries", "George Adams"}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"Left-handed Idiots" ,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  { "Wilson &amp; Co.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"Ed Wilson"}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"Thingamabob" , 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part {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loat price ;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name [10]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part *p , 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 = &amp;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/* The following three statements are equivalent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ing.price = 5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(*p).price = 50;   /* () around *p is needed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 -&gt; price = 50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et to point to the first byte of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62200" y="1951200"/>
            <a:ext cx="882360" cy="366120"/>
            <a:chOff x="2662200" y="1951200"/>
            <a:chExt cx="882360" cy="366120"/>
          </a:xfrm>
        </p:grpSpPr>
        <p:sp>
          <p:nvSpPr>
            <p:cNvPr id="152" name=""/>
            <p:cNvSpPr/>
            <p:nvPr/>
          </p:nvSpPr>
          <p:spPr>
            <a:xfrm>
              <a:off x="266220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0968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557520" y="1951200"/>
            <a:ext cx="880920" cy="366120"/>
            <a:chOff x="3557520" y="1951200"/>
            <a:chExt cx="880920" cy="366120"/>
          </a:xfrm>
        </p:grpSpPr>
        <p:sp>
          <p:nvSpPr>
            <p:cNvPr id="155" name=""/>
            <p:cNvSpPr/>
            <p:nvPr/>
          </p:nvSpPr>
          <p:spPr>
            <a:xfrm>
              <a:off x="3557520" y="1951200"/>
              <a:ext cx="43416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04280" y="1951200"/>
              <a:ext cx="43416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451400" y="1951200"/>
            <a:ext cx="882360" cy="366120"/>
            <a:chOff x="4451400" y="1951200"/>
            <a:chExt cx="882360" cy="366120"/>
          </a:xfrm>
        </p:grpSpPr>
        <p:sp>
          <p:nvSpPr>
            <p:cNvPr id="158" name=""/>
            <p:cNvSpPr/>
            <p:nvPr/>
          </p:nvSpPr>
          <p:spPr>
            <a:xfrm>
              <a:off x="445140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9888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346720" y="1951200"/>
            <a:ext cx="882360" cy="366120"/>
            <a:chOff x="5346720" y="1951200"/>
            <a:chExt cx="882360" cy="366120"/>
          </a:xfrm>
        </p:grpSpPr>
        <p:sp>
          <p:nvSpPr>
            <p:cNvPr id="161" name=""/>
            <p:cNvSpPr/>
            <p:nvPr/>
          </p:nvSpPr>
          <p:spPr>
            <a:xfrm>
              <a:off x="534672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420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42040" y="1951200"/>
            <a:ext cx="880560" cy="366120"/>
            <a:chOff x="6242040" y="1951200"/>
            <a:chExt cx="880560" cy="366120"/>
          </a:xfrm>
        </p:grpSpPr>
        <p:sp>
          <p:nvSpPr>
            <p:cNvPr id="164" name=""/>
            <p:cNvSpPr/>
            <p:nvPr/>
          </p:nvSpPr>
          <p:spPr>
            <a:xfrm>
              <a:off x="6242040" y="1951200"/>
              <a:ext cx="43380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9160" y="1951200"/>
              <a:ext cx="43344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134120" y="1951200"/>
            <a:ext cx="880920" cy="366120"/>
            <a:chOff x="7134120" y="1951200"/>
            <a:chExt cx="880920" cy="366120"/>
          </a:xfrm>
        </p:grpSpPr>
        <p:sp>
          <p:nvSpPr>
            <p:cNvPr id="167" name=""/>
            <p:cNvSpPr/>
            <p:nvPr/>
          </p:nvSpPr>
          <p:spPr>
            <a:xfrm>
              <a:off x="7134120" y="1951200"/>
              <a:ext cx="43380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81240" y="1951200"/>
              <a:ext cx="43380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591560" y="1185840"/>
            <a:ext cx="1809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500" spc="-1" strike="noStrike">
                <a:solidFill>
                  <a:srgbClr val="9900cc"/>
                </a:solidFill>
                <a:latin typeface="Arial"/>
              </a:rPr>
              <a:t>thing.pri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52200" y="1185840"/>
            <a:ext cx="2266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500" spc="-1" strike="noStrike">
                <a:solidFill>
                  <a:srgbClr val="9900cc"/>
                </a:solidFill>
                <a:latin typeface="Arial"/>
              </a:rPr>
              <a:t>thing.name [ ]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41680" y="1641600"/>
            <a:ext cx="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757680" y="15447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3800" y="155088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61120" y="1565280"/>
            <a:ext cx="15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12000" y="1571760"/>
            <a:ext cx="0" cy="34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92360" y="2724120"/>
            <a:ext cx="381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500" spc="-1" strike="noStrike">
                <a:solidFill>
                  <a:srgbClr val="9900cc"/>
                </a:solidFill>
                <a:latin typeface="Arial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02000" y="2711520"/>
            <a:ext cx="920880" cy="34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447920" y="288612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447920" y="2133360"/>
            <a:ext cx="279360" cy="71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779480" y="1951200"/>
            <a:ext cx="882360" cy="366120"/>
            <a:chOff x="1779480" y="1951200"/>
            <a:chExt cx="882360" cy="366120"/>
          </a:xfrm>
        </p:grpSpPr>
        <p:sp>
          <p:nvSpPr>
            <p:cNvPr id="181" name=""/>
            <p:cNvSpPr/>
            <p:nvPr/>
          </p:nvSpPr>
          <p:spPr>
            <a:xfrm>
              <a:off x="177948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2696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557520" y="1951200"/>
            <a:ext cx="0" cy="36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part * p, *q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 = (struct part *) malloc( sizeof(struct part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q = (struct part *) malloc( sizeof(struct part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 -&gt; price = 199.99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cpy( p -&gt; name, "hard disk"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(*q) = (*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q = 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ree(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ree(q); /* This statement causes a problem !!!          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           Why?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locate a structure array as w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part *pt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tr = (struct part *) malloc(10 * sizeof(struct part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 i=0; i&lt; 10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tr[ i ].price = 10.0 *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printf( ptr[ i ].name, "part %d", i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e(pt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are C’s way of grouping collections of data into a single manageable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so the fundamental element of C upon which most of C++ is built (i.e., cla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Java's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a structure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 {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int x ;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int y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efines a new typ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No variable is actually declared or gene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pointer arithmetic to access the elements of the arr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part *ptr, 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tr = (struct part *) malloc(10 * sizeof(struct part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 i=0, p=ptr; i&lt; 10; i++, p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 -&gt; price = 10.0 *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printf( p -&gt; name, "part %d", i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e(pt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 as Structure 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struct node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int da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struct node *nex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struct node a,b,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a.next = &amp;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b.next = &amp;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c.next = NU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6477120"/>
            <a:ext cx="2590560" cy="685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6477120"/>
            <a:ext cx="2590560" cy="685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6477120"/>
            <a:ext cx="2590560" cy="685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6477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6477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59640" y="6477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685800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68515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614080" y="66294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2400" y="7062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54400" y="7062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14920" y="7062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143000"/>
            <a:ext cx="4548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.data = 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.next-&gt;data =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/* b.data =2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.next-&gt;next-&gt;data = 3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/* c.data = 3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.next = (struct node *) malloc(sizeof(struct node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ignment Operator vs. memc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388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ssign a struct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part a,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.price = 39.9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.name = "floppy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 = 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0" y="114264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ly, you can use memc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ring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part a,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.price = 39.9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.name = "floppy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emcpy(&amp;a,&amp;b,sizeof(part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 Member vs. Pointer 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33530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book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loat pr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name[50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5840" y="1142640"/>
            <a:ext cx="61722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book a,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.price = 19.9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cpy(b.name, "C handbook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 = 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cpy(b.name, "Unix handbook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uts(a.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uts(b.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 Member vs. Pointer 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9000" y="1142640"/>
            <a:ext cx="64008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a,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.price = 19.9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.name = (char *) malloc(5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py(b.name, "C handbook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 = 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py(b.name, "Unix handbook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a.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b.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e(b.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0880" y="1142640"/>
            <a:ext cx="2819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book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loat pr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" y="5486400"/>
            <a:ext cx="2960640" cy="1557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 function called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dup() will do the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alloc() and strcpy()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 one step for you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00200" y="3885840"/>
            <a:ext cx="21337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ssing Structures to Functi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are passed by value to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meter variable is a local variable, which will be assigned by the value of the argument pa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the structure is copied if it is passed as a para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inefficient if the structure is b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case it may be more efficient to pass a pointer to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returned from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ssing Structures to Functi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loat pr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abstract[50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void print_abstract( struct book *p_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 p_book-&gt;abstract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952880" cy="662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pair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in, ma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pairInt min_max(int x,int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pairInt pai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air.min = (x &gt; y) ? y :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air.max = (x &gt; y) ? x :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pair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pairInt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sult = min_max( 3, 5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&lt;=%d", result.min, result.ma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 {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int x,y ;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 first, seco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 {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int x,y ;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 first, second;  /* declare variables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 thi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even use a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typede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f your don't like having to use the word “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tru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ypedef struct coord coordin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oordinate first, seco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some compilers, and all C++ compilers, you can usually simply say ju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oord first, seco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structure variables by the dot (.)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ure_var.member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irst.x = 5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cond.y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mber names are like the public data members of a class in Java (or C++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quivalent to function members/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_var.member_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used anywhere a variable can be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%d , %d", second.x , second.y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canf("%d, %d", &amp;first.x, &amp;first.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(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ssign structures as a unit with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rst = seco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of wri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rst.x = second.x ;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rst.y = second.y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 saving here is not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reduce the likelihood of error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ore convenient with larg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ifferent from Java where variables are simply references to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rst = seco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rst and second refer to the sam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Containing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“type” of thing can be a member of a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coord struct to define a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rectangl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oord toplef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oord bottom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escribes a rectangle by using the two points necess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rectangle mybox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ing th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x = 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y = 1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bottomrt.x = 10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bottomrt.y = 20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886200" cy="662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oord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rectangl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oord toplef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oord bottom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24480" y="1142640"/>
            <a:ext cx="5153040" cy="662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length, wid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ong ar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rectangle mybo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x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bottomrt.x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bottomrt.y = 5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dth = mybox.bottomrt.x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ength = mybox.bottomrt.y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ea   = width * leng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The area is %ld units.\n", ar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22400" y="2246400"/>
            <a:ext cx="2506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24480" y="1486080"/>
            <a:ext cx="4608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37160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Containing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within structures are the same as any other memb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record {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float 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 y [5] ;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organ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829480"/>
            <a:ext cx="213372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5829480"/>
            <a:ext cx="266688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5829480"/>
            <a:ext cx="0" cy="457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5829480"/>
            <a:ext cx="0" cy="457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5829480"/>
            <a:ext cx="0" cy="457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5829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829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5829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5829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8680" y="68198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5760" y="68198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4267080" y="3123720"/>
            <a:ext cx="228600" cy="4800600"/>
          </a:xfrm>
          <a:custGeom>
            <a:avLst/>
            <a:gdLst>
              <a:gd name="textAreaLeft" fmla="*/ 0 w 228600"/>
              <a:gd name="textAreaRight" fmla="*/ 8244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6960" y="4762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 rot="5400000">
            <a:off x="2857320" y="5524560"/>
            <a:ext cx="228600" cy="1981440"/>
          </a:xfrm>
          <a:custGeom>
            <a:avLst/>
            <a:gdLst>
              <a:gd name="textAreaLeft" fmla="*/ 0 w 228600"/>
              <a:gd name="textAreaRight" fmla="*/ 82440 w 2286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 rot="5400000">
            <a:off x="5410080" y="525816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08-29T18:03:08Z</dcterms:modified>
  <cp:revision>1575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